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8A36-FAB2-4A6F-8F08-10DB27593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4C52-E49D-4BD9-8E9B-FA4F88A6DC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CDA4-C4B4-407D-93A0-9B4448AA9A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F58C-B459-48C8-8403-A07DE13C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6C26-84A3-4926-A530-ED696FB7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A1BC-42D5-41AD-A4E2-6F899DA2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09DE-03E9-4673-B706-87FD3A78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F516-D18F-491D-996F-6D5200BB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4634-14BE-4152-A432-34FA82AF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6390-C00F-4FEC-9EA4-211E35F7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BD2E-FB3F-4C05-B9C9-B76C47B9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38C5-CFE9-4191-B684-F178A824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B5EA-12AF-4DF2-91C0-0436F68A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A241-2064-4D93-9F1E-13CA35DC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B2C9-E890-4C6D-8D87-6AD6DBB4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909F-C2A2-4B3F-80AB-51D9245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E371-CD70-4380-BF23-509A618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A004-F3A8-49F3-A1E0-A044D9A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7D8D-6E8F-4C90-8C60-480AAECB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FB12-2A92-4DD6-B38D-1865D6E3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49E2-A2E5-4A0E-9761-6D22B88D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42A6-D48F-4383-9695-AE13DBF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CF52-4143-4EA2-98BF-8B4E1424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969B-BCDF-4001-9221-3AAC4D31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6C04-3122-48DD-8898-0265FF2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B7F1-8B4A-4114-B8A3-6FFEDA9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9ED6-F315-40CF-BB51-5F3D7AE8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AA40-5FA4-4264-859F-53EDF6D777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C435-314E-49A2-8C44-03D4D92CF2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.org/1999/XSL/Transfor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71840" y="1371600"/>
            <a:ext cx="5291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Arial"/>
              </a:rPr>
              <a:t>ACG 5405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XML and XBR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UBLCatalogueCompressed.jpg"/>
          <p:cNvPicPr/>
          <p:nvPr/>
        </p:nvPicPr>
        <p:blipFill>
          <a:blip r:embed="rId1"/>
          <a:stretch/>
        </p:blipFill>
        <p:spPr>
          <a:xfrm>
            <a:off x="339840" y="1143000"/>
            <a:ext cx="846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UBL Catalogue Node Tre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3"/>
          <p:cNvSpPr/>
          <p:nvPr/>
        </p:nvSpPr>
        <p:spPr>
          <a:xfrm>
            <a:off x="3429000" y="4952880"/>
            <a:ext cx="1981080" cy="99072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talo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0" y="2666880"/>
            <a:ext cx="114300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1143000" y="2666880"/>
            <a:ext cx="129528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2438280" y="2666880"/>
            <a:ext cx="129564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3733920" y="2514600"/>
            <a:ext cx="1752480" cy="121932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5486400" y="2590920"/>
            <a:ext cx="1752480" cy="121896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7238880" y="2590920"/>
            <a:ext cx="1905120" cy="121896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talo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11"/>
          <p:cNvSpPr/>
          <p:nvPr/>
        </p:nvSpPr>
        <p:spPr>
          <a:xfrm flipH="1" flipV="1">
            <a:off x="571320" y="3504960"/>
            <a:ext cx="384804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13"/>
          <p:cNvSpPr/>
          <p:nvPr/>
        </p:nvSpPr>
        <p:spPr>
          <a:xfrm>
            <a:off x="1789920" y="3505320"/>
            <a:ext cx="262908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1"/>
          <p:cNvSpPr/>
          <p:nvPr/>
        </p:nvSpPr>
        <p:spPr>
          <a:xfrm flipV="1">
            <a:off x="4419000" y="3733920"/>
            <a:ext cx="190440" cy="12189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23"/>
          <p:cNvSpPr/>
          <p:nvPr/>
        </p:nvSpPr>
        <p:spPr>
          <a:xfrm flipV="1">
            <a:off x="4419000" y="3809520"/>
            <a:ext cx="1942920" cy="114300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25"/>
          <p:cNvSpPr/>
          <p:nvPr/>
        </p:nvSpPr>
        <p:spPr>
          <a:xfrm flipV="1">
            <a:off x="4419000" y="3809520"/>
            <a:ext cx="3771720" cy="114300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traight Connector 27"/>
          <p:cNvSpPr/>
          <p:nvPr/>
        </p:nvSpPr>
        <p:spPr>
          <a:xfrm flipH="1" flipV="1">
            <a:off x="3086280" y="3504960"/>
            <a:ext cx="133344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1447560" y="2666880"/>
            <a:ext cx="838080" cy="2971800"/>
          </a:xfrm>
          <a:custGeom>
            <a:avLst/>
            <a:gdLst>
              <a:gd name="textAreaLeft" fmla="*/ 246240 w 838080"/>
              <a:gd name="textAreaRight" fmla="*/ 838440 w 838080"/>
              <a:gd name="textAreaTop" fmla="*/ 123840 h 2971800"/>
              <a:gd name="textAreaBottom" fmla="*/ 284832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9160" y="38466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f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5867280" y="2895480"/>
            <a:ext cx="838080" cy="2971800"/>
          </a:xfrm>
          <a:custGeom>
            <a:avLst/>
            <a:gdLst>
              <a:gd name="textAreaLeft" fmla="*/ 246240 w 838080"/>
              <a:gd name="textAreaRight" fmla="*/ 838440 w 838080"/>
              <a:gd name="textAreaTop" fmla="*/ 123840 h 2971800"/>
              <a:gd name="textAreaBottom" fmla="*/ 284832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7480" y="40752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nch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371600"/>
            <a:ext cx="175284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1295280"/>
            <a:ext cx="175248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y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1219320"/>
            <a:ext cx="175248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724280" y="2285640"/>
            <a:ext cx="76320" cy="152280"/>
          </a:xfrm>
          <a:prstGeom prst="line">
            <a:avLst/>
          </a:prstGeom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to transform dat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HTML&gt;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ells processor transformation will use html tag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ode between &lt;HTML&gt; and &lt;/HTML&gt; code is the data to be transformed and the formatting code for the 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447920" y="685800"/>
            <a:ext cx="79246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?xml version="1.0"?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nventory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nventoryItem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ame&gt;Basketball&lt;/Na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dNumber&gt;12345&lt;/IdNumb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Cost units="USD"&gt;12.50&lt;/Cos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tailPrice units="USD"&gt;25.00&lt;/RetailPric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InventoryItem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Inventory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lue-of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s and transforms/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s the value of the selected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 the end of the nod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i="1" lang="en-US" sz="21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attribu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must point to the “node” you want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ll node path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ntory/InventoryItem/IdNumb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//elementname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when one and only one element has th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at root and look for element n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xsl:value-of select=“Name”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-of select can use a function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-each loo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ll elements contained in a node-se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de-set is declared with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ttribu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.xsl code provide instructions for what to do with selec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at transformations to ma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TML, and XSL tags combine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xsl:for-each select=“Inventory/InventoryItem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ume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il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oo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n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at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s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ize-spac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s-with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-length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-afte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-befor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mat() func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-number attribute has two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attern (see formatting pattern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xsl:value-of select =“format-number(sum(Inventory/InventoryItem/Cost),’$#.00’)”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2362320" y="4724280"/>
            <a:ext cx="4038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736440" y="48006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6629400" y="4800600"/>
            <a:ext cx="914400" cy="457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631560" y="48006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1911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42670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matting Numbe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A dig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 A digit, zero shows as abs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pref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period) Placeholder for decimal separ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laceholder for grouping separ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Separate forma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fault prefix for neg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Multiply by 100 and show as a percen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Any other characters can be used in the prefix or suffi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to quote special characters in a prefix or suffix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ccessing Remote Instance Doc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()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xsl:value-of select=“document(‘URI.xml)”/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-Purpo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benefit of XML / XB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usability of Data contained in Instance Docu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e need a method of presenting the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ation Link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utput (HTML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ransformation will be to an HTML doc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Cente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ABLE BORDER = ‘1’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fines the border width for the tab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able Hea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tarts a new row in the tab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D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tarts a new cell in the row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lspan=“#”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any columns should this cell s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lign=“right, left or center”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ags must be close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fining Tables in HTM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able Border=“n”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begin making a tabl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H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use text as heading (1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row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insert a new ro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D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insert a new column in the new ro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ose all ta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&lt;/TD&gt;, &lt;/TR&gt;, &lt;/Table&g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able with 2 rows and 3 colum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ABLE BORDER=“1”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1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2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3&lt;/TD&gt;&lt;/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1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2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3&lt;/TD&gt;&lt;/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y it’s based on XM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at the data will look li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use, Repurpose, calculate, sort, etc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 Par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ransform Instance Document to different For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ML, XHTML, XML (new), PD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r formatting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formation Requires xml code in Two Documen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nce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Prolog line linking to xslt docu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T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tains script for selecting elements to be display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XS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80880" y="434340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Xtensible Stylesheet Language –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Native XML language for processing XML documents into other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352680" y="2209680"/>
            <a:ext cx="1905120" cy="1600200"/>
          </a:xfrm>
          <a:prstGeom prst="cube">
            <a:avLst>
              <a:gd name="adj" fmla="val 250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X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914400" y="160020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914400" y="312408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553080" y="228600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2133720" y="34290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5257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forming your Instance Docume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an additional prolog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your .xml to your .xsl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?xml-stylesheet type=“text/xsl” href=“name.xsl”?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-styleshee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ls the processor to use the stylesheet file to format the data in the .xml doc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ref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ints to location of .xsl docu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 (the XML code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Root Elem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namespace decla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xsl:stylesheet xmlns:xsl=</a:t>
            </a:r>
            <a:r>
              <a:rPr b="0" lang="en-US" sz="17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w3.org/1999/XSL/Transform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version="1.0"&gt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ll other namespaces used in the instance document (THEY MUST MATCH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fault namespaces (e.g. without the prefix) are not allowed in XSLT v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ke up a pre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lements used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emplat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r-ea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value-of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mu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+, -, *, div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mat-numb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emplat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 that follows roo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elements from .xml are being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s provide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ing Elements from Instance against Template created in XS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&lt;xsl:template match=“/”&gt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/ = Look in entire source doc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38:08Z</dcterms:created>
  <dc:creator> </dc:creator>
  <dc:description/>
  <dc:language>en-US</dc:language>
  <cp:lastModifiedBy> </cp:lastModifiedBy>
  <dcterms:modified xsi:type="dcterms:W3CDTF">2009-07-07T14:22:33Z</dcterms:modified>
  <cp:revision>44</cp:revision>
  <dc:subject/>
  <dc:title>ACG 5405</dc:title>
</cp:coreProperties>
</file>